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B5DC-7567-44E3-9D6F-992FBA15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EE6-4931-4B37-9488-C6C8B7E9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2C3-1AE7-4E7B-9BA8-3C02DF43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5F8-4E02-499C-9286-EEE027AC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CB6-7DC4-4D83-974F-A300EA68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587-DCD5-4C53-9ED7-E9029A24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5EC-2E96-46B5-A3CD-F7360AE7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8B4-43B4-4582-B259-2C8FB694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16B-A873-45C5-9D74-D027B5ED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43E-F71E-471C-BD80-6C248F8E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94A-C487-4331-8901-5195AAFD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6E7-7E94-41F7-BF95-B3733DA7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70E9-6CA0-4604-B065-CBEC0B7CC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cc"/>
                </a:solidFill>
                <a:latin typeface="Arial"/>
              </a:rPr>
              <a:t>Poet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llustrated with the Assistance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rt &amp; Technology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28164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83160" y="628164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 rot="16200000">
            <a:off x="-1991880" y="252540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 rot="5400000">
            <a:off x="6575040" y="252576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 rot="5400000">
            <a:off x="6575040" y="366876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 rot="5400000">
            <a:off x="-1992600" y="3744720"/>
            <a:ext cx="4560840" cy="576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28954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By the 2</a:t>
            </a:r>
            <a:r>
              <a:rPr b="1" i="1" lang="en-US" sz="24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 Grad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200" y="538200"/>
            <a:ext cx="8933040" cy="578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480" y="5791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A tiger is wild. A tiger is fast. A tiger is striped. A tiger is a carnivore. A tiger is a mam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057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an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0574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22096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lustrated by: Randy,James &amp; Ch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9360" y="-76320"/>
            <a:ext cx="91627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457200"/>
            <a:ext cx="73915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hting is b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hting is sca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hting is fake in so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hting is a ga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hting is sad.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4191120"/>
            <a:ext cx="24382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ten by Rheese Adam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trated b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heese Adam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iley Pol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in Sz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5562720" cy="586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563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The flower is colo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The flower is p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The flower is 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The flower is pur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The flowers middle is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Poem by Annika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Illustr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Annika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Brooke T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52280" y="49528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7391520" y="4876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0" y="1522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96480" cy="577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4120" y="533520"/>
            <a:ext cx="32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609480"/>
            <a:ext cx="297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Florida is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Florida is 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Florida is c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Florida is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Florida is 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457200"/>
            <a:ext cx="2667240" cy="225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lorida is f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lorida is 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lorida is c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lorida is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lorida is beauti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3886200"/>
            <a:ext cx="304776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ff"/>
                </a:solidFill>
                <a:latin typeface="Arial"/>
              </a:rPr>
              <a:t>Written by Che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ff"/>
                </a:solidFill>
                <a:latin typeface="Arial"/>
              </a:rPr>
              <a:t>Illustrated by Cheyenne, Sydney, &amp; All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280" y="152280"/>
            <a:ext cx="2895840" cy="116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Written by Hann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Illustrated by Hannah, Kathleen, &amp; Mad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3080" y="547560"/>
          <a:ext cx="8999640" cy="576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547560"/>
                    <a:ext cx="899964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52280" y="1752480"/>
            <a:ext cx="3276720" cy="95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66"/>
                </a:solidFill>
                <a:latin typeface="Baskerville Old Face"/>
              </a:rPr>
              <a:t>Written by M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66"/>
                </a:solidFill>
                <a:latin typeface="Baskerville Old Face"/>
              </a:rPr>
              <a:t>Illustrations by Mike, Jacob, &amp; P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0"/>
          <a:ext cx="91440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04920" y="56386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Poem Written By: Hanna Bre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56386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Illustrated by: Jessica Tellez, Jessica Horvath, and Hanna Bre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0"/>
            <a:ext cx="3886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Baskerville Old Face"/>
              </a:rPr>
              <a:t>A frog is c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Baskerville Old Face"/>
              </a:rPr>
              <a:t>A frog is an amphibi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Baskerville Old Face"/>
              </a:rPr>
              <a:t>A frog is gre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Baskerville Old Face"/>
              </a:rPr>
              <a:t>A frog is not a rep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6840" y="571680"/>
            <a:ext cx="89517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838080"/>
            <a:ext cx="198144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iger is a mammal, it is faster than a camel. A tiger is wild and hairy, it is striped orange and black and is very mer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by Jac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lustrated by Jacob, Colton, and Ri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440" y="0"/>
            <a:ext cx="9087120" cy="6629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81080" y="5715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nap ITC"/>
              </a:rPr>
              <a:t>Illustrated By: Joe Dreiman, Adam Hanson, and Carl Michal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49528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nap ITC"/>
              </a:rPr>
              <a:t>written By: Joe Drei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-685800" y="-2209680"/>
          <a:ext cx="11506320" cy="83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5800" y="-2209680"/>
                    <a:ext cx="11506320" cy="83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267080" y="3581280"/>
            <a:ext cx="6248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y Family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family is c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family is fun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family is si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family is we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family is cra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952880"/>
            <a:ext cx="4038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By: Jacklyn Tel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lustrated By: Jacklyn Tellez, Kaitlyn Sniadecki, and Courtney Lyczyn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28800" y="4038480"/>
            <a:ext cx="57913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Tennessee is h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Tennessee is a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Tennessee is 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Tennessee i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Tennessee is awesome</a:t>
            </a:r>
            <a:r>
              <a:rPr b="0" lang="en-US" sz="2400" spc="-1" strike="noStrike">
                <a:solidFill>
                  <a:srgbClr val="ccecff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981080" y="228600"/>
            <a:ext cx="479124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nnesse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 rot="5400000">
            <a:off x="5795640" y="3195360"/>
            <a:ext cx="5667480" cy="495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BY NOAH GUES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624852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ppoBlaD"/>
              </a:rPr>
              <a:t>Illustrated by Andy Ellis, Nate Roberson, and Noah Gues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1:44:54Z</dcterms:created>
  <dc:creator>Patrick Mooney</dc:creator>
  <dc:description/>
  <dc:language>en-US</dc:language>
  <cp:lastModifiedBy>Patrick J. Mooney</cp:lastModifiedBy>
  <dcterms:modified xsi:type="dcterms:W3CDTF">2010-05-03T15:26:27Z</dcterms:modified>
  <cp:revision>15</cp:revision>
  <dc:subject/>
  <dc:title>Poetry</dc:title>
</cp:coreProperties>
</file>